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152C-A4D8-44BA-85DF-C90947186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3A1A-2FD9-4AE2-A40B-DE62625BCE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4F43-BAF3-4FD5-8025-738AEAC2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3742-641B-4FD1-B046-4A341B35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AE17-D730-4FAA-8FE8-3BD7B0F8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2903-22C6-46F5-8CAB-C74E9A11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C479-DD17-41D4-A7CC-551A5B109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C182-FF89-40E4-B59E-B13D3DFF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0520-DA9A-42B0-B16F-428A3B0F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D140-C7F1-4386-9740-25F4A122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8DCD-798A-44B0-9671-0B0D730A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EE8E-51AB-4061-8C3A-EA191CB3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1A08-2CF1-4BED-92FB-625D078B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02D1-5107-4C87-80D1-86C9DF2F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B36D-0728-4294-AA8A-660DC415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6E2D-5723-4009-89B6-1E737604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7025-8160-425C-B729-2E56A062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5794-F392-4F0E-9DD3-4BF20758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CED1-C797-49EF-AA3F-C06921B57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C9B1-6CD3-427F-A947-A8CDE01B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B668-C712-48A5-9E9D-63F1BAC9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2A64-3D49-4BA5-BB83-9DC99D1F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E28B-68AA-460D-989A-BD787A1A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F488-3633-4050-85EB-55B4BF58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BAF2-DD64-4116-B50C-7FF74C7A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EDAC-FCD8-4972-9EE4-5FC278B3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6736-552D-41BD-81D8-EACD56F96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1ED3-1FA4-4938-AC88-0E5B03839C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Spanish Food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Unique Foo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zpacho and Paella are two unique foods that are eaten in Spa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el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zpacho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5" descr="gazpacho"/>
          <p:cNvPicPr/>
          <p:nvPr/>
        </p:nvPicPr>
        <p:blipFill>
          <a:blip r:embed="rId1"/>
          <a:stretch/>
        </p:blipFill>
        <p:spPr>
          <a:xfrm>
            <a:off x="0" y="48006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32" name="Line 6"/>
          <p:cNvSpPr/>
          <p:nvPr/>
        </p:nvSpPr>
        <p:spPr>
          <a:xfrm flipH="1">
            <a:off x="1676160" y="4343400"/>
            <a:ext cx="759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8" descr="paella-200x167"/>
          <p:cNvPicPr/>
          <p:nvPr/>
        </p:nvPicPr>
        <p:blipFill>
          <a:blip r:embed="rId2"/>
          <a:stretch/>
        </p:blipFill>
        <p:spPr>
          <a:xfrm>
            <a:off x="5257800" y="3657600"/>
            <a:ext cx="2362320" cy="1965240"/>
          </a:xfrm>
          <a:prstGeom prst="rect">
            <a:avLst/>
          </a:prstGeom>
          <a:ln w="0">
            <a:noFill/>
          </a:ln>
        </p:spPr>
      </p:pic>
      <p:sp>
        <p:nvSpPr>
          <p:cNvPr id="134" name="Line 11"/>
          <p:cNvSpPr/>
          <p:nvPr/>
        </p:nvSpPr>
        <p:spPr>
          <a:xfrm>
            <a:off x="6324480" y="31240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mmon Foo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on foods in Spain consist of  Serrano, which is a cured ham, and a sausage called choriz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rra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riz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1676520" y="4724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4495680" y="3809880"/>
            <a:ext cx="7632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9" descr="murray- serrano.jpeg"/>
          <p:cNvPicPr/>
          <p:nvPr/>
        </p:nvPicPr>
        <p:blipFill>
          <a:blip r:embed="rId1"/>
          <a:stretch/>
        </p:blipFill>
        <p:spPr>
          <a:xfrm>
            <a:off x="3429000" y="4419720"/>
            <a:ext cx="3048120" cy="3047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murray- chorizo.jpg"/>
          <p:cNvPicPr/>
          <p:nvPr/>
        </p:nvPicPr>
        <p:blipFill>
          <a:blip r:embed="rId2"/>
          <a:stretch/>
        </p:blipFill>
        <p:spPr>
          <a:xfrm>
            <a:off x="914400" y="5202360"/>
            <a:ext cx="19209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ealtim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eakfast- 8am It mostly consists of coffee and pastr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nch-2pm It’s the largest meal of the day and has 3 cour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nack- 5pm They have hot chocolate eaten with churro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nner-8pm Small meal consisting of salad or sou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hotchocolate"/>
          <p:cNvPicPr/>
          <p:nvPr/>
        </p:nvPicPr>
        <p:blipFill>
          <a:blip r:embed="rId1"/>
          <a:stretch/>
        </p:blipFill>
        <p:spPr>
          <a:xfrm>
            <a:off x="6705720" y="5334120"/>
            <a:ext cx="2276280" cy="1523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dt-spanishtortilla"/>
          <p:cNvPicPr/>
          <p:nvPr/>
        </p:nvPicPr>
        <p:blipFill>
          <a:blip r:embed="rId2"/>
          <a:stretch/>
        </p:blipFill>
        <p:spPr>
          <a:xfrm>
            <a:off x="228600" y="0"/>
            <a:ext cx="251460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670536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amous Dish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6" name="il_fi" descr="http://www.outboardmotoroilblog.com/wp-content/uploads/2011/07/fish-paella.jpg"/>
          <p:cNvPicPr/>
          <p:nvPr/>
        </p:nvPicPr>
        <p:blipFill>
          <a:blip r:embed="rId1"/>
          <a:stretch/>
        </p:blipFill>
        <p:spPr>
          <a:xfrm>
            <a:off x="1447920" y="1905120"/>
            <a:ext cx="2666880" cy="2428920"/>
          </a:xfrm>
          <a:prstGeom prst="rect">
            <a:avLst/>
          </a:prstGeom>
          <a:ln w="0">
            <a:noFill/>
          </a:ln>
        </p:spPr>
      </p:pic>
      <p:pic>
        <p:nvPicPr>
          <p:cNvPr id="147" name="il_fi" descr="http://www.pastrypal.com/wp-content/uploads/2009/09/spain-13.jpg"/>
          <p:cNvPicPr/>
          <p:nvPr/>
        </p:nvPicPr>
        <p:blipFill>
          <a:blip r:embed="rId2"/>
          <a:stretch/>
        </p:blipFill>
        <p:spPr>
          <a:xfrm>
            <a:off x="4876920" y="4191120"/>
            <a:ext cx="2895480" cy="2209680"/>
          </a:xfrm>
          <a:prstGeom prst="rect">
            <a:avLst/>
          </a:prstGeom>
          <a:ln w="0">
            <a:noFill/>
          </a:ln>
        </p:spPr>
      </p:pic>
      <p:sp>
        <p:nvSpPr>
          <p:cNvPr id="148" name="TextBox 5"/>
          <p:cNvSpPr/>
          <p:nvPr/>
        </p:nvSpPr>
        <p:spPr>
          <a:xfrm>
            <a:off x="914400" y="4419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EL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6248520" y="37339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OT CHOCOL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Unique Cooking Utensil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il_fi" descr="http://3.bp.blogspot.com/-XsD8Y8O1rs0/TpW73ZrhBMI/AAAAAAAAF-E/XULfUTJrbkQ/s640/ESP-Kitchen-Giveaway.jpg"/>
          <p:cNvPicPr/>
          <p:nvPr/>
        </p:nvPicPr>
        <p:blipFill>
          <a:blip r:embed="rId1"/>
          <a:stretch/>
        </p:blipFill>
        <p:spPr>
          <a:xfrm>
            <a:off x="914400" y="2971800"/>
            <a:ext cx="2514600" cy="2057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http://justinsomnia.org/images/paella-cooking-in-a-paella-pan.jpg"/>
          <p:cNvPicPr/>
          <p:nvPr/>
        </p:nvPicPr>
        <p:blipFill>
          <a:blip r:embed="rId2"/>
          <a:stretch/>
        </p:blipFill>
        <p:spPr>
          <a:xfrm>
            <a:off x="4495680" y="2971800"/>
            <a:ext cx="3619800" cy="26668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6"/>
          <p:cNvSpPr/>
          <p:nvPr/>
        </p:nvSpPr>
        <p:spPr>
          <a:xfrm>
            <a:off x="5181480" y="37339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ELLA  P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ood Traditi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5228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the New Year comes in Spain, children have to eat Panecillos del santo. It is a type of bread that helps the kids not choke in the New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il_fi" descr="http://2.bp.blogspot.com/_CqUIJ645Vx4/THJsh9pWrsI/AAAAAAAACXY/am6E2sTMwmk/s1600/Partybrot+(pan+de+fiesta)+1.jpg"/>
          <p:cNvPicPr/>
          <p:nvPr/>
        </p:nvPicPr>
        <p:blipFill>
          <a:blip r:embed="rId1"/>
          <a:stretch/>
        </p:blipFill>
        <p:spPr>
          <a:xfrm>
            <a:off x="2819520" y="3657600"/>
            <a:ext cx="30859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22:57:51Z</dcterms:created>
  <dc:creator> </dc:creator>
  <dc:description/>
  <dc:language>en-US</dc:language>
  <cp:lastModifiedBy>teacher</cp:lastModifiedBy>
  <dcterms:modified xsi:type="dcterms:W3CDTF">2013-05-13T18:13:36Z</dcterms:modified>
  <cp:revision>8</cp:revision>
  <dc:subject/>
  <dc:title>Spanish Food!!!!</dc:title>
</cp:coreProperties>
</file>